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1AC-B4DB-4E4F-8DC7-5A5F2CEC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9D9-6A00-4B7B-BF62-2664F0FA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981-8279-41C7-8293-AA023BA3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318-8987-4E1B-870C-D2EBEFA2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7739-9097-4FA0-8783-B816FC2D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A0F7-5C38-4156-AB35-E97DAB53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2EB3-1179-4BC4-A70A-C4636921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6961-7D1A-4203-B834-EEAA2731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AD8A-58CD-407F-AE2F-DF4E6EA9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5160-AEF8-42A2-879A-52993C6A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320B-82E9-4125-955B-1550B9B7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662-F2E6-4CBB-964E-AC09EC4D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582F-7E21-40A7-8B02-2EFAF67D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92B6-3791-4AE7-BBE2-B362D22D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1F29-BDEF-47FD-BCEF-FEBF0616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79AD-25B3-4B0E-A4A2-46DF3C1B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DDD4-3EB9-4ADB-A35E-74CABC54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68E-325B-4141-999A-67592F09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082-FE61-49BD-8BB5-9B6DB615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E0C-BFD6-4D0B-AD61-D5CE8194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745-C1EF-4A80-910E-4085751B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816-51C3-477B-B66A-DA9118B5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8A6-6757-418D-B687-787FB179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1B2-8E77-4F24-8925-963F9A32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2380-0E65-4DB4-8A0E-B469E728C0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532720" y="476280"/>
            <a:ext cx="611280" cy="6408720"/>
            <a:chOff x="8532720" y="476280"/>
            <a:chExt cx="611280" cy="640872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4880" y="3756240"/>
              <a:ext cx="585828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IEDZA O GOSPODA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3" descr="C:\Users\Marta\Desktop\sowa\sowa_3.png"/>
            <p:cNvPicPr/>
            <p:nvPr/>
          </p:nvPicPr>
          <p:blipFill>
            <a:blip r:embed="rId2"/>
            <a:stretch/>
          </p:blipFill>
          <p:spPr>
            <a:xfrm>
              <a:off x="8532720" y="476280"/>
              <a:ext cx="61128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F52E-8793-4B02-91D7-113711DB3C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4A4D-7C91-4A7E-9F49-508D0BCF02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raz 8" descr="naglowek_obowiazujacy_usw kolor"/>
          <p:cNvPicPr/>
          <p:nvPr/>
        </p:nvPicPr>
        <p:blipFill>
          <a:blip r:embed="rId1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grpSp>
        <p:nvGrpSpPr>
          <p:cNvPr id="88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89" name="Prostokąt zaokrąglony 13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rostokąt 14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Diagram 16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ole tekstowe 7"/>
          <p:cNvSpPr/>
          <p:nvPr/>
        </p:nvSpPr>
        <p:spPr>
          <a:xfrm>
            <a:off x="468360" y="1125360"/>
            <a:ext cx="41749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minimalna 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 cena ustanowiona przez rząd na poziomie wyższym od ceny równowagi w celu ochrony interesów producentów. Wprowadzenie ceny minimalnej skutkuje powstaniem nadwyżki rynkowej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3495600" cy="2800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5364000" y="4149720"/>
            <a:ext cx="277812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ole tekstowe 7"/>
          <p:cNvSpPr/>
          <p:nvPr/>
        </p:nvSpPr>
        <p:spPr>
          <a:xfrm>
            <a:off x="468360" y="907920"/>
            <a:ext cx="38876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maksymalna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ena ustanowiona przez rząd na poziomie niższym od ceny równowagi rynkowej w celu ochrony nabywców. Wprowadzenie ceny maksymalnej skutkuje powstaniem niedoboru rynkow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263680" cy="1609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4572000" y="765000"/>
            <a:ext cx="35290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Łącznik prosty 52"/>
          <p:cNvSpPr/>
          <p:nvPr/>
        </p:nvSpPr>
        <p:spPr>
          <a:xfrm>
            <a:off x="1547640" y="1557360"/>
            <a:ext cx="4680000" cy="280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Łącznik prosty 53"/>
          <p:cNvSpPr/>
          <p:nvPr/>
        </p:nvSpPr>
        <p:spPr>
          <a:xfrm flipV="1">
            <a:off x="1547640" y="1628640"/>
            <a:ext cx="4248360" cy="2880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upa 54"/>
          <p:cNvGrpSpPr/>
          <p:nvPr/>
        </p:nvGrpSpPr>
        <p:grpSpPr>
          <a:xfrm>
            <a:off x="900000" y="2060640"/>
            <a:ext cx="1511280" cy="3456000"/>
            <a:chOff x="900000" y="2060640"/>
            <a:chExt cx="1511280" cy="3456000"/>
          </a:xfrm>
        </p:grpSpPr>
        <p:sp>
          <p:nvSpPr>
            <p:cNvPr id="221" name="Łącznik prosty 55"/>
            <p:cNvSpPr/>
            <p:nvPr/>
          </p:nvSpPr>
          <p:spPr>
            <a:xfrm>
              <a:off x="900000" y="2060640"/>
              <a:ext cx="151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Łącznik prosty 56"/>
            <p:cNvSpPr/>
            <p:nvPr/>
          </p:nvSpPr>
          <p:spPr>
            <a:xfrm>
              <a:off x="2411280" y="2060640"/>
              <a:ext cx="0" cy="3456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Łącznik prosty 58"/>
          <p:cNvSpPr/>
          <p:nvPr/>
        </p:nvSpPr>
        <p:spPr>
          <a:xfrm flipH="1">
            <a:off x="899640" y="2924280"/>
            <a:ext cx="604836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Łącznik prosty 59"/>
          <p:cNvSpPr/>
          <p:nvPr/>
        </p:nvSpPr>
        <p:spPr>
          <a:xfrm>
            <a:off x="3851280" y="2924280"/>
            <a:ext cx="0" cy="2592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upa 60"/>
          <p:cNvGrpSpPr/>
          <p:nvPr/>
        </p:nvGrpSpPr>
        <p:grpSpPr>
          <a:xfrm>
            <a:off x="900000" y="3933720"/>
            <a:ext cx="4608720" cy="1582920"/>
            <a:chOff x="900000" y="3933720"/>
            <a:chExt cx="4608720" cy="1582920"/>
          </a:xfrm>
        </p:grpSpPr>
        <p:sp>
          <p:nvSpPr>
            <p:cNvPr id="226" name="Łącznik prosty 61"/>
            <p:cNvSpPr/>
            <p:nvPr/>
          </p:nvSpPr>
          <p:spPr>
            <a:xfrm>
              <a:off x="900000" y="3933720"/>
              <a:ext cx="4608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Łącznik prosty 62"/>
            <p:cNvSpPr/>
            <p:nvPr/>
          </p:nvSpPr>
          <p:spPr>
            <a:xfrm>
              <a:off x="5508720" y="3933720"/>
              <a:ext cx="0" cy="15829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upa 63"/>
          <p:cNvGrpSpPr/>
          <p:nvPr/>
        </p:nvGrpSpPr>
        <p:grpSpPr>
          <a:xfrm>
            <a:off x="-73440" y="836640"/>
            <a:ext cx="1570680" cy="5049000"/>
            <a:chOff x="-73440" y="836640"/>
            <a:chExt cx="1570680" cy="5049000"/>
          </a:xfrm>
        </p:grpSpPr>
        <p:cxnSp>
          <p:nvCxnSpPr>
            <p:cNvPr id="229" name="Łącznik prosty ze strzałką 64"/>
            <p:cNvCxnSpPr/>
            <p:nvPr/>
          </p:nvCxnSpPr>
          <p:spPr>
            <a:xfrm flipV="1">
              <a:off x="899640" y="1123560"/>
              <a:ext cx="1080" cy="439344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230" name="pole tekstowe 65"/>
            <p:cNvSpPr/>
            <p:nvPr/>
          </p:nvSpPr>
          <p:spPr>
            <a:xfrm>
              <a:off x="685440" y="551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pole tekstowe 66"/>
            <p:cNvSpPr/>
            <p:nvPr/>
          </p:nvSpPr>
          <p:spPr>
            <a:xfrm>
              <a:off x="-73440" y="1775520"/>
              <a:ext cx="104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inimal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pole tekstowe 67"/>
            <p:cNvSpPr/>
            <p:nvPr/>
          </p:nvSpPr>
          <p:spPr>
            <a:xfrm>
              <a:off x="546840" y="2708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pole tekstowe 68"/>
            <p:cNvSpPr/>
            <p:nvPr/>
          </p:nvSpPr>
          <p:spPr>
            <a:xfrm>
              <a:off x="8640" y="3676680"/>
              <a:ext cx="120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aksymal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ole tekstowe 69"/>
            <p:cNvSpPr/>
            <p:nvPr/>
          </p:nvSpPr>
          <p:spPr>
            <a:xfrm>
              <a:off x="539280" y="83664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P – c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upa 70"/>
          <p:cNvGrpSpPr/>
          <p:nvPr/>
        </p:nvGrpSpPr>
        <p:grpSpPr>
          <a:xfrm>
            <a:off x="899640" y="5516280"/>
            <a:ext cx="7298640" cy="406080"/>
            <a:chOff x="899640" y="5516280"/>
            <a:chExt cx="7298640" cy="406080"/>
          </a:xfrm>
        </p:grpSpPr>
        <p:cxnSp>
          <p:nvCxnSpPr>
            <p:cNvPr id="236" name="Łącznik prosty ze strzałką 71"/>
            <p:cNvCxnSpPr/>
            <p:nvPr/>
          </p:nvCxnSpPr>
          <p:spPr>
            <a:xfrm>
              <a:off x="899640" y="5516280"/>
              <a:ext cx="698436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237" name="pole tekstowe 72"/>
            <p:cNvSpPr/>
            <p:nvPr/>
          </p:nvSpPr>
          <p:spPr>
            <a:xfrm>
              <a:off x="2275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pole tekstowe 73"/>
            <p:cNvSpPr/>
            <p:nvPr/>
          </p:nvSpPr>
          <p:spPr>
            <a:xfrm>
              <a:off x="3643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pole tekstowe 74"/>
            <p:cNvSpPr/>
            <p:nvPr/>
          </p:nvSpPr>
          <p:spPr>
            <a:xfrm>
              <a:off x="5371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pole tekstowe 75"/>
            <p:cNvSpPr/>
            <p:nvPr/>
          </p:nvSpPr>
          <p:spPr>
            <a:xfrm>
              <a:off x="7240320" y="551664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ole tekstowe 76"/>
          <p:cNvSpPr/>
          <p:nvPr/>
        </p:nvSpPr>
        <p:spPr>
          <a:xfrm>
            <a:off x="5157000" y="12682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S – krzywa podaż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77"/>
          <p:cNvSpPr/>
          <p:nvPr/>
        </p:nvSpPr>
        <p:spPr>
          <a:xfrm>
            <a:off x="6165360" y="4076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D – krzywa popy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78"/>
          <p:cNvSpPr/>
          <p:nvPr/>
        </p:nvSpPr>
        <p:spPr>
          <a:xfrm>
            <a:off x="3710520" y="2421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79"/>
          <p:cNvSpPr/>
          <p:nvPr/>
        </p:nvSpPr>
        <p:spPr>
          <a:xfrm>
            <a:off x="2925720" y="206064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adwyżka rynko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80"/>
          <p:cNvSpPr/>
          <p:nvPr/>
        </p:nvSpPr>
        <p:spPr>
          <a:xfrm>
            <a:off x="3068280" y="342900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iedobór rynk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lipsa 86"/>
          <p:cNvSpPr/>
          <p:nvPr/>
        </p:nvSpPr>
        <p:spPr>
          <a:xfrm>
            <a:off x="3780000" y="2852640"/>
            <a:ext cx="144360" cy="1447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87"/>
          <p:cNvSpPr/>
          <p:nvPr/>
        </p:nvSpPr>
        <p:spPr>
          <a:xfrm>
            <a:off x="5219640" y="2565360"/>
            <a:ext cx="2160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 baseline="-25000">
                <a:solidFill>
                  <a:srgbClr val="c00000"/>
                </a:solidFill>
                <a:latin typeface="Times New Roman ce"/>
                <a:ea typeface="Times New Roman ce"/>
              </a:rPr>
              <a:t>cena równowagi rynkowej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539640" y="836640"/>
          <a:ext cx="7345440" cy="426960"/>
        </p:xfrm>
        <a:graphic>
          <a:graphicData uri="http://schemas.openxmlformats.org/drawingml/2006/table">
            <a:tbl>
              <a:tblPr/>
              <a:tblGrid>
                <a:gridCol w="2232000"/>
                <a:gridCol w="5113440"/>
              </a:tblGrid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39640" y="1268280"/>
          <a:ext cx="7345440" cy="2232000"/>
        </p:xfrm>
        <a:graphic>
          <a:graphicData uri="http://schemas.openxmlformats.org/drawingml/2006/table">
            <a:tbl>
              <a:tblPr/>
              <a:tblGrid>
                <a:gridCol w="2232000"/>
                <a:gridCol w="5113440"/>
              </a:tblGrid>
              <a:tr h="2232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ena maksymal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cena ustanowiona przez rząd na poziomie niższym od ceny równowagi rynkowej w celu ochrony interesów nabywców. Wprowadzenie ceny maksymalnej skutkuje powstaniem niedoboru rynkoweg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39640" y="3500280"/>
          <a:ext cx="7345440" cy="1873440"/>
        </p:xfrm>
        <a:graphic>
          <a:graphicData uri="http://schemas.openxmlformats.org/drawingml/2006/table">
            <a:tbl>
              <a:tblPr/>
              <a:tblGrid>
                <a:gridCol w="2232000"/>
                <a:gridCol w="5113440"/>
              </a:tblGrid>
              <a:tr h="1873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ena minimal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cena ustanowiona przez rząd na poziomie wyższym od ceny równowagi </a:t>
                      </a:r>
                      <a:br>
                        <a:rPr sz="2200"/>
                      </a:b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 celu ochrony interesów producentów. Wprowadzenie ceny minimalnej skutkuje powstaniem nadwyżki rynkowej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Łącznik prosty 30"/>
          <p:cNvSpPr/>
          <p:nvPr/>
        </p:nvSpPr>
        <p:spPr>
          <a:xfrm>
            <a:off x="1547640" y="1557360"/>
            <a:ext cx="4680000" cy="280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Łącznik prosty 32"/>
          <p:cNvSpPr/>
          <p:nvPr/>
        </p:nvSpPr>
        <p:spPr>
          <a:xfrm flipV="1">
            <a:off x="1547640" y="1628640"/>
            <a:ext cx="4248360" cy="2880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upa 76"/>
          <p:cNvGrpSpPr/>
          <p:nvPr/>
        </p:nvGrpSpPr>
        <p:grpSpPr>
          <a:xfrm>
            <a:off x="900000" y="2060640"/>
            <a:ext cx="1511280" cy="3456000"/>
            <a:chOff x="900000" y="2060640"/>
            <a:chExt cx="1511280" cy="3456000"/>
          </a:xfrm>
        </p:grpSpPr>
        <p:sp>
          <p:nvSpPr>
            <p:cNvPr id="98" name="Łącznik prosty 34"/>
            <p:cNvSpPr/>
            <p:nvPr/>
          </p:nvSpPr>
          <p:spPr>
            <a:xfrm>
              <a:off x="900000" y="2060640"/>
              <a:ext cx="151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Łącznik prosty 36"/>
            <p:cNvSpPr/>
            <p:nvPr/>
          </p:nvSpPr>
          <p:spPr>
            <a:xfrm>
              <a:off x="2411280" y="2060640"/>
              <a:ext cx="0" cy="3456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upa 79"/>
          <p:cNvGrpSpPr/>
          <p:nvPr/>
        </p:nvGrpSpPr>
        <p:grpSpPr>
          <a:xfrm>
            <a:off x="900000" y="2924280"/>
            <a:ext cx="2951280" cy="2592360"/>
            <a:chOff x="900000" y="2924280"/>
            <a:chExt cx="2951280" cy="2592360"/>
          </a:xfrm>
        </p:grpSpPr>
        <p:sp>
          <p:nvSpPr>
            <p:cNvPr id="101" name="Łącznik prosty 44"/>
            <p:cNvSpPr/>
            <p:nvPr/>
          </p:nvSpPr>
          <p:spPr>
            <a:xfrm flipH="1">
              <a:off x="900000" y="2924280"/>
              <a:ext cx="295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Łącznik prosty 46"/>
            <p:cNvSpPr/>
            <p:nvPr/>
          </p:nvSpPr>
          <p:spPr>
            <a:xfrm>
              <a:off x="3851280" y="2924280"/>
              <a:ext cx="0" cy="259236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upa 78"/>
          <p:cNvGrpSpPr/>
          <p:nvPr/>
        </p:nvGrpSpPr>
        <p:grpSpPr>
          <a:xfrm>
            <a:off x="900000" y="3933720"/>
            <a:ext cx="4608720" cy="1582920"/>
            <a:chOff x="900000" y="3933720"/>
            <a:chExt cx="4608720" cy="1582920"/>
          </a:xfrm>
        </p:grpSpPr>
        <p:sp>
          <p:nvSpPr>
            <p:cNvPr id="104" name="Łącznik prosty 48"/>
            <p:cNvSpPr/>
            <p:nvPr/>
          </p:nvSpPr>
          <p:spPr>
            <a:xfrm>
              <a:off x="900000" y="3933720"/>
              <a:ext cx="4608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Łącznik prosty 50"/>
            <p:cNvSpPr/>
            <p:nvPr/>
          </p:nvSpPr>
          <p:spPr>
            <a:xfrm>
              <a:off x="5508720" y="3933720"/>
              <a:ext cx="0" cy="15829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upa 74"/>
          <p:cNvGrpSpPr/>
          <p:nvPr/>
        </p:nvGrpSpPr>
        <p:grpSpPr>
          <a:xfrm>
            <a:off x="540000" y="836640"/>
            <a:ext cx="957960" cy="5049000"/>
            <a:chOff x="540000" y="836640"/>
            <a:chExt cx="957960" cy="5049000"/>
          </a:xfrm>
        </p:grpSpPr>
        <p:cxnSp>
          <p:nvCxnSpPr>
            <p:cNvPr id="107" name="Łącznik prosty ze strzałką 12"/>
            <p:cNvCxnSpPr/>
            <p:nvPr/>
          </p:nvCxnSpPr>
          <p:spPr>
            <a:xfrm flipV="1">
              <a:off x="899640" y="1123560"/>
              <a:ext cx="1080" cy="439344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108" name="pole tekstowe 53"/>
            <p:cNvSpPr/>
            <p:nvPr/>
          </p:nvSpPr>
          <p:spPr>
            <a:xfrm>
              <a:off x="686520" y="551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ole tekstowe 57"/>
            <p:cNvSpPr/>
            <p:nvPr/>
          </p:nvSpPr>
          <p:spPr>
            <a:xfrm>
              <a:off x="547560" y="1844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ole tekstowe 58"/>
            <p:cNvSpPr/>
            <p:nvPr/>
          </p:nvSpPr>
          <p:spPr>
            <a:xfrm>
              <a:off x="547560" y="2708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ole tekstowe 59"/>
            <p:cNvSpPr/>
            <p:nvPr/>
          </p:nvSpPr>
          <p:spPr>
            <a:xfrm>
              <a:off x="547560" y="371700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pole tekstowe 60"/>
            <p:cNvSpPr/>
            <p:nvPr/>
          </p:nvSpPr>
          <p:spPr>
            <a:xfrm>
              <a:off x="540000" y="83664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upa 75"/>
          <p:cNvGrpSpPr/>
          <p:nvPr/>
        </p:nvGrpSpPr>
        <p:grpSpPr>
          <a:xfrm>
            <a:off x="900000" y="5516280"/>
            <a:ext cx="7350120" cy="406080"/>
            <a:chOff x="900000" y="5516280"/>
            <a:chExt cx="7350120" cy="406080"/>
          </a:xfrm>
        </p:grpSpPr>
        <p:cxnSp>
          <p:nvCxnSpPr>
            <p:cNvPr id="114" name="Łącznik prosty ze strzałką 16"/>
            <p:cNvCxnSpPr/>
            <p:nvPr/>
          </p:nvCxnSpPr>
          <p:spPr>
            <a:xfrm>
              <a:off x="900000" y="5516280"/>
              <a:ext cx="69847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115" name="pole tekstowe 54"/>
            <p:cNvSpPr/>
            <p:nvPr/>
          </p:nvSpPr>
          <p:spPr>
            <a:xfrm>
              <a:off x="2275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ole tekstowe 55"/>
            <p:cNvSpPr/>
            <p:nvPr/>
          </p:nvSpPr>
          <p:spPr>
            <a:xfrm>
              <a:off x="364356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ole tekstowe 56"/>
            <p:cNvSpPr/>
            <p:nvPr/>
          </p:nvSpPr>
          <p:spPr>
            <a:xfrm>
              <a:off x="537192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ole tekstowe 62"/>
            <p:cNvSpPr/>
            <p:nvPr/>
          </p:nvSpPr>
          <p:spPr>
            <a:xfrm>
              <a:off x="7241760" y="551664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ole tekstowe 63"/>
          <p:cNvSpPr/>
          <p:nvPr/>
        </p:nvSpPr>
        <p:spPr>
          <a:xfrm>
            <a:off x="5157000" y="12682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S – krzywa podaż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64"/>
          <p:cNvSpPr/>
          <p:nvPr/>
        </p:nvSpPr>
        <p:spPr>
          <a:xfrm>
            <a:off x="6165360" y="4076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D – krzywa popy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ole tekstowe 65"/>
          <p:cNvSpPr/>
          <p:nvPr/>
        </p:nvSpPr>
        <p:spPr>
          <a:xfrm>
            <a:off x="4081680" y="278136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E – punkt równowagi rynk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66"/>
          <p:cNvSpPr/>
          <p:nvPr/>
        </p:nvSpPr>
        <p:spPr>
          <a:xfrm>
            <a:off x="3282480" y="2205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adwyż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67"/>
          <p:cNvSpPr/>
          <p:nvPr/>
        </p:nvSpPr>
        <p:spPr>
          <a:xfrm>
            <a:off x="3281760" y="335772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iedob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Łącznik prosty ze strzałką 69"/>
          <p:cNvCxnSpPr>
            <a:stCxn id="116" idx="3"/>
            <a:endCxn id="117" idx="1"/>
          </p:cNvCxnSpPr>
          <p:nvPr/>
        </p:nvCxnSpPr>
        <p:spPr>
          <a:xfrm>
            <a:off x="4013280" y="5702040"/>
            <a:ext cx="135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Łącznik prosty ze strzałką 71"/>
          <p:cNvCxnSpPr>
            <a:stCxn id="110" idx="2"/>
            <a:endCxn id="111" idx="0"/>
          </p:cNvCxnSpPr>
          <p:nvPr/>
        </p:nvCxnSpPr>
        <p:spPr>
          <a:xfrm>
            <a:off x="734760" y="3077640"/>
            <a:ext cx="1080" cy="6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6" name="Elipsa 73"/>
          <p:cNvSpPr/>
          <p:nvPr/>
        </p:nvSpPr>
        <p:spPr>
          <a:xfrm>
            <a:off x="3780000" y="2852640"/>
            <a:ext cx="144360" cy="144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0" name=""/>
          <p:cNvGraphicFramePr/>
          <p:nvPr/>
        </p:nvGraphicFramePr>
        <p:xfrm>
          <a:off x="539640" y="907920"/>
          <a:ext cx="7561440" cy="571680"/>
        </p:xfrm>
        <a:graphic>
          <a:graphicData uri="http://schemas.openxmlformats.org/drawingml/2006/table">
            <a:tbl>
              <a:tblPr/>
              <a:tblGrid>
                <a:gridCol w="2305080"/>
                <a:gridCol w="5256360"/>
              </a:tblGrid>
              <a:tr h="57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39640" y="1484280"/>
          <a:ext cx="7561440" cy="1150920"/>
        </p:xfrm>
        <a:graphic>
          <a:graphicData uri="http://schemas.openxmlformats.org/drawingml/2006/table">
            <a:tbl>
              <a:tblPr/>
              <a:tblGrid>
                <a:gridCol w="2305080"/>
                <a:gridCol w="5256360"/>
              </a:tblGrid>
              <a:tr h="115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Równowaga rynkow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Jest to taka sytuacja na rynku danego dobra, w której wielkość popytu równa jest wielkości podaż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39640" y="2637000"/>
          <a:ext cx="7561440" cy="1512720"/>
        </p:xfrm>
        <a:graphic>
          <a:graphicData uri="http://schemas.openxmlformats.org/drawingml/2006/table">
            <a:tbl>
              <a:tblPr/>
              <a:tblGrid>
                <a:gridCol w="2305080"/>
                <a:gridCol w="5256360"/>
              </a:tblGrid>
              <a:tr h="151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ena równowag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Jest to cena równoważąca rynek danego dobra, przy której wielkość zapotrzebowania na dane dobro równa jest wielkości oferowanej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39640" y="4149720"/>
          <a:ext cx="7561440" cy="1224000"/>
        </p:xfrm>
        <a:graphic>
          <a:graphicData uri="http://schemas.openxmlformats.org/drawingml/2006/table">
            <a:tbl>
              <a:tblPr/>
              <a:tblGrid>
                <a:gridCol w="2305080"/>
                <a:gridCol w="5256360"/>
              </a:tblGrid>
              <a:tr h="122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ielkość równowag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Jest to wielkość transakcji dokonywanych w warunkach, gdy wielkość popytu równa się wielkości podaż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1924200" cy="2016360"/>
          </a:xfrm>
          <a:prstGeom prst="rect">
            <a:avLst/>
          </a:prstGeom>
          <a:ln w="0">
            <a:noFill/>
          </a:ln>
        </p:spPr>
      </p:pic>
      <p:grpSp>
        <p:nvGrpSpPr>
          <p:cNvPr id="13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ole tekstowe 7"/>
          <p:cNvSpPr/>
          <p:nvPr/>
        </p:nvSpPr>
        <p:spPr>
          <a:xfrm>
            <a:off x="1979640" y="404640"/>
            <a:ext cx="6264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cena będzie wyższa od ceny równowagi (P1), będziemy mieć do czynienia z sytuacją, w której przedsiębiorcy oferują więcej dobra, niż gospodarstwa domowe chcą kupić. Jest to stan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dwyżki rynkowej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zwanej również nadwyżką podaży lub niedoborem popy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3203640" y="3789360"/>
            <a:ext cx="37576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ole tekstowe 7"/>
          <p:cNvSpPr/>
          <p:nvPr/>
        </p:nvSpPr>
        <p:spPr>
          <a:xfrm>
            <a:off x="3059280" y="476280"/>
            <a:ext cx="52578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cena będzie niższa od ceny równowagi (P2), będziemy mieć do czynienia z sytuacją, w której przedsiębiorcy zaoferują mniej dobra, niż gospodarstwa domowe chcą kupić. Jest to stan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doboru rynkowego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zwanego niedoborem podaży lub nadwyżką popy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2552400" cy="200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1547640" y="3860640"/>
            <a:ext cx="29149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echanizm rynkow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upa 12"/>
          <p:cNvGrpSpPr/>
          <p:nvPr/>
        </p:nvGrpSpPr>
        <p:grpSpPr>
          <a:xfrm>
            <a:off x="395280" y="1341360"/>
            <a:ext cx="7632720" cy="4175280"/>
            <a:chOff x="395280" y="1341360"/>
            <a:chExt cx="7632720" cy="4175280"/>
          </a:xfrm>
        </p:grpSpPr>
        <p:sp>
          <p:nvSpPr>
            <p:cNvPr id="151" name="Prostokąt zaokrąglony 8"/>
            <p:cNvSpPr/>
            <p:nvPr/>
          </p:nvSpPr>
          <p:spPr>
            <a:xfrm>
              <a:off x="1834920" y="3141720"/>
              <a:ext cx="6193080" cy="2374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ole tekstowe 7"/>
            <p:cNvSpPr/>
            <p:nvPr/>
          </p:nvSpPr>
          <p:spPr>
            <a:xfrm>
              <a:off x="2339280" y="3501000"/>
              <a:ext cx="511272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 proces ciągłego dopasowywania się do siebie podaży (S) i popytu (D) celem osiągnięcia równowagi rynkowej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"/>
            <p:cNvPicPr/>
            <p:nvPr/>
          </p:nvPicPr>
          <p:blipFill>
            <a:blip r:embed="rId2"/>
            <a:stretch/>
          </p:blipFill>
          <p:spPr>
            <a:xfrm>
              <a:off x="395280" y="1341360"/>
              <a:ext cx="2304000" cy="22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Minus 12"/>
          <p:cNvSpPr/>
          <p:nvPr/>
        </p:nvSpPr>
        <p:spPr>
          <a:xfrm>
            <a:off x="347760" y="2886120"/>
            <a:ext cx="7584840" cy="869760"/>
          </a:xfrm>
          <a:custGeom>
            <a:avLst/>
            <a:gdLst>
              <a:gd name="textAreaLeft" fmla="*/ 1005120 w 7584840"/>
              <a:gd name="textAreaRight" fmla="*/ 6579720 w 7584840"/>
              <a:gd name="textAreaTop" fmla="*/ 332640 h 869760"/>
              <a:gd name="textAreaBottom" fmla="*/ 537120 h 869760"/>
            </a:gdLst>
            <a:ahLst/>
            <a:rect l="textAreaLeft" t="textAreaTop" r="textAreaRight" b="textAreaBottom"/>
            <a:pathLst>
              <a:path w="7585075" h="869950">
                <a:moveTo>
                  <a:pt x="1005401" y="332669"/>
                </a:moveTo>
                <a:lnTo>
                  <a:pt x="6579674" y="332669"/>
                </a:lnTo>
                <a:lnTo>
                  <a:pt x="6579674" y="537281"/>
                </a:lnTo>
                <a:lnTo>
                  <a:pt x="1005401" y="537281"/>
                </a:lnTo>
                <a:close/>
              </a:path>
            </a:pathLst>
          </a:custGeom>
          <a:solidFill>
            <a:srgbClr val="b2c1db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załka w dół 14"/>
          <p:cNvSpPr/>
          <p:nvPr/>
        </p:nvSpPr>
        <p:spPr>
          <a:xfrm>
            <a:off x="1239840" y="955800"/>
            <a:ext cx="2289240" cy="210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olny kształt 15"/>
          <p:cNvSpPr/>
          <p:nvPr/>
        </p:nvSpPr>
        <p:spPr>
          <a:xfrm>
            <a:off x="3924360" y="692280"/>
            <a:ext cx="3672000" cy="2208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135000" bIns="135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dwyżka rynkowa (nadwyżka podaży, niedobór popytu)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jest to taki stan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którym wielkość podaży jest większa od wielkości popytu, występuje przy cenie większej od ceny równowa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załka w górę 16"/>
          <p:cNvSpPr/>
          <p:nvPr/>
        </p:nvSpPr>
        <p:spPr>
          <a:xfrm>
            <a:off x="4749840" y="3584520"/>
            <a:ext cx="2290680" cy="2102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wolny kształt 17"/>
          <p:cNvSpPr/>
          <p:nvPr/>
        </p:nvSpPr>
        <p:spPr>
          <a:xfrm>
            <a:off x="1187280" y="3741840"/>
            <a:ext cx="3024360" cy="2208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135000" bIns="135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dobór rynk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 taki stan na rynku, w którym wielkość popytu będzie większa od wielkości podaży, występuje przy cenie niższej od ceny równowa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Łącznik prosty 7"/>
          <p:cNvSpPr/>
          <p:nvPr/>
        </p:nvSpPr>
        <p:spPr>
          <a:xfrm>
            <a:off x="1547640" y="1557360"/>
            <a:ext cx="4680000" cy="280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Łącznik prosty 8"/>
          <p:cNvSpPr/>
          <p:nvPr/>
        </p:nvSpPr>
        <p:spPr>
          <a:xfrm flipV="1">
            <a:off x="1547640" y="1628640"/>
            <a:ext cx="4248360" cy="2880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9"/>
          <p:cNvGrpSpPr/>
          <p:nvPr/>
        </p:nvGrpSpPr>
        <p:grpSpPr>
          <a:xfrm>
            <a:off x="900000" y="2060640"/>
            <a:ext cx="1511280" cy="3456000"/>
            <a:chOff x="900000" y="2060640"/>
            <a:chExt cx="1511280" cy="3456000"/>
          </a:xfrm>
        </p:grpSpPr>
        <p:sp>
          <p:nvSpPr>
            <p:cNvPr id="168" name="Łącznik prosty 12"/>
            <p:cNvSpPr/>
            <p:nvPr/>
          </p:nvSpPr>
          <p:spPr>
            <a:xfrm>
              <a:off x="900000" y="2060640"/>
              <a:ext cx="151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Łącznik prosty 14"/>
            <p:cNvSpPr/>
            <p:nvPr/>
          </p:nvSpPr>
          <p:spPr>
            <a:xfrm>
              <a:off x="2411280" y="2060640"/>
              <a:ext cx="0" cy="3456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upa 15"/>
          <p:cNvGrpSpPr/>
          <p:nvPr/>
        </p:nvGrpSpPr>
        <p:grpSpPr>
          <a:xfrm>
            <a:off x="900000" y="2924280"/>
            <a:ext cx="2951280" cy="2592360"/>
            <a:chOff x="900000" y="2924280"/>
            <a:chExt cx="2951280" cy="2592360"/>
          </a:xfrm>
        </p:grpSpPr>
        <p:sp>
          <p:nvSpPr>
            <p:cNvPr id="171" name="Łącznik prosty 16"/>
            <p:cNvSpPr/>
            <p:nvPr/>
          </p:nvSpPr>
          <p:spPr>
            <a:xfrm flipH="1">
              <a:off x="900000" y="2924280"/>
              <a:ext cx="295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Łącznik prosty 17"/>
            <p:cNvSpPr/>
            <p:nvPr/>
          </p:nvSpPr>
          <p:spPr>
            <a:xfrm>
              <a:off x="3851280" y="2924280"/>
              <a:ext cx="0" cy="259236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upa 18"/>
          <p:cNvGrpSpPr/>
          <p:nvPr/>
        </p:nvGrpSpPr>
        <p:grpSpPr>
          <a:xfrm>
            <a:off x="900000" y="3933720"/>
            <a:ext cx="4608720" cy="1582920"/>
            <a:chOff x="900000" y="3933720"/>
            <a:chExt cx="4608720" cy="1582920"/>
          </a:xfrm>
        </p:grpSpPr>
        <p:sp>
          <p:nvSpPr>
            <p:cNvPr id="174" name="Łącznik prosty 19"/>
            <p:cNvSpPr/>
            <p:nvPr/>
          </p:nvSpPr>
          <p:spPr>
            <a:xfrm>
              <a:off x="900000" y="3933720"/>
              <a:ext cx="4608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Łącznik prosty 20"/>
            <p:cNvSpPr/>
            <p:nvPr/>
          </p:nvSpPr>
          <p:spPr>
            <a:xfrm>
              <a:off x="5508720" y="3933720"/>
              <a:ext cx="0" cy="15829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upa 21"/>
          <p:cNvGrpSpPr/>
          <p:nvPr/>
        </p:nvGrpSpPr>
        <p:grpSpPr>
          <a:xfrm>
            <a:off x="539640" y="836640"/>
            <a:ext cx="900000" cy="5049000"/>
            <a:chOff x="539640" y="836640"/>
            <a:chExt cx="900000" cy="5049000"/>
          </a:xfrm>
        </p:grpSpPr>
        <p:cxnSp>
          <p:nvCxnSpPr>
            <p:cNvPr id="177" name="Łącznik prosty ze strzałką 22"/>
            <p:cNvCxnSpPr/>
            <p:nvPr/>
          </p:nvCxnSpPr>
          <p:spPr>
            <a:xfrm flipV="1">
              <a:off x="899640" y="1123560"/>
              <a:ext cx="1080" cy="439344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178" name="pole tekstowe 23"/>
            <p:cNvSpPr/>
            <p:nvPr/>
          </p:nvSpPr>
          <p:spPr>
            <a:xfrm>
              <a:off x="685800" y="551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pole tekstowe 24"/>
            <p:cNvSpPr/>
            <p:nvPr/>
          </p:nvSpPr>
          <p:spPr>
            <a:xfrm>
              <a:off x="547200" y="1844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pole tekstowe 25"/>
            <p:cNvSpPr/>
            <p:nvPr/>
          </p:nvSpPr>
          <p:spPr>
            <a:xfrm>
              <a:off x="547200" y="2708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pole tekstowe 26"/>
            <p:cNvSpPr/>
            <p:nvPr/>
          </p:nvSpPr>
          <p:spPr>
            <a:xfrm>
              <a:off x="547200" y="371700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pole tekstowe 27"/>
            <p:cNvSpPr/>
            <p:nvPr/>
          </p:nvSpPr>
          <p:spPr>
            <a:xfrm>
              <a:off x="539640" y="8366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P –c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upa 28"/>
          <p:cNvGrpSpPr/>
          <p:nvPr/>
        </p:nvGrpSpPr>
        <p:grpSpPr>
          <a:xfrm>
            <a:off x="899640" y="5516280"/>
            <a:ext cx="7298640" cy="406080"/>
            <a:chOff x="899640" y="5516280"/>
            <a:chExt cx="7298640" cy="406080"/>
          </a:xfrm>
        </p:grpSpPr>
        <p:cxnSp>
          <p:nvCxnSpPr>
            <p:cNvPr id="184" name="Łącznik prosty ze strzałką 29"/>
            <p:cNvCxnSpPr/>
            <p:nvPr/>
          </p:nvCxnSpPr>
          <p:spPr>
            <a:xfrm>
              <a:off x="899640" y="5516280"/>
              <a:ext cx="698436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185" name="pole tekstowe 30"/>
            <p:cNvSpPr/>
            <p:nvPr/>
          </p:nvSpPr>
          <p:spPr>
            <a:xfrm>
              <a:off x="2275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pole tekstowe 31"/>
            <p:cNvSpPr/>
            <p:nvPr/>
          </p:nvSpPr>
          <p:spPr>
            <a:xfrm>
              <a:off x="3643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pole tekstowe 32"/>
            <p:cNvSpPr/>
            <p:nvPr/>
          </p:nvSpPr>
          <p:spPr>
            <a:xfrm>
              <a:off x="5371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pole tekstowe 33"/>
            <p:cNvSpPr/>
            <p:nvPr/>
          </p:nvSpPr>
          <p:spPr>
            <a:xfrm>
              <a:off x="7240320" y="551664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ole tekstowe 34"/>
          <p:cNvSpPr/>
          <p:nvPr/>
        </p:nvSpPr>
        <p:spPr>
          <a:xfrm>
            <a:off x="5157000" y="12682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S – krzywa podaż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35"/>
          <p:cNvSpPr/>
          <p:nvPr/>
        </p:nvSpPr>
        <p:spPr>
          <a:xfrm>
            <a:off x="6165360" y="4076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D – krzywa popy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ole tekstowe 36"/>
          <p:cNvSpPr/>
          <p:nvPr/>
        </p:nvSpPr>
        <p:spPr>
          <a:xfrm>
            <a:off x="4081680" y="278136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E – punkt równowagi rynk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37"/>
          <p:cNvSpPr/>
          <p:nvPr/>
        </p:nvSpPr>
        <p:spPr>
          <a:xfrm>
            <a:off x="3282480" y="2205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adwyż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ole tekstowe 39"/>
          <p:cNvSpPr/>
          <p:nvPr/>
        </p:nvSpPr>
        <p:spPr>
          <a:xfrm>
            <a:off x="3281760" y="335772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iedob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Łącznik prosty ze strzałką 40"/>
          <p:cNvCxnSpPr/>
          <p:nvPr/>
        </p:nvCxnSpPr>
        <p:spPr>
          <a:xfrm>
            <a:off x="4013280" y="5702040"/>
            <a:ext cx="135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5" name="Łącznik prosty ze strzałką 41"/>
          <p:cNvCxnSpPr/>
          <p:nvPr/>
        </p:nvCxnSpPr>
        <p:spPr>
          <a:xfrm>
            <a:off x="734760" y="3077640"/>
            <a:ext cx="1080" cy="6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6" name="Elipsa 42"/>
          <p:cNvSpPr/>
          <p:nvPr/>
        </p:nvSpPr>
        <p:spPr>
          <a:xfrm>
            <a:off x="3780000" y="2852640"/>
            <a:ext cx="144360" cy="1447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0" name=""/>
          <p:cNvGraphicFramePr/>
          <p:nvPr/>
        </p:nvGraphicFramePr>
        <p:xfrm>
          <a:off x="468360" y="1197000"/>
          <a:ext cx="7488360" cy="576360"/>
        </p:xfrm>
        <a:graphic>
          <a:graphicData uri="http://schemas.openxmlformats.org/drawingml/2006/table">
            <a:tbl>
              <a:tblPr/>
              <a:tblGrid>
                <a:gridCol w="2232000"/>
                <a:gridCol w="5256360"/>
              </a:tblGrid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8360" y="1773360"/>
          <a:ext cx="7488360" cy="1584360"/>
        </p:xfrm>
        <a:graphic>
          <a:graphicData uri="http://schemas.openxmlformats.org/drawingml/2006/table">
            <a:tbl>
              <a:tblPr/>
              <a:tblGrid>
                <a:gridCol w="2232000"/>
                <a:gridCol w="5256360"/>
              </a:tblGrid>
              <a:tr h="1584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adwyżka rynkow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Jest to taki stan, w którym wielkość podaży jest większa od wielkości popytu, występuje przy cenie większej od ceny równowag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68360" y="3357720"/>
          <a:ext cx="7488360" cy="1584000"/>
        </p:xfrm>
        <a:graphic>
          <a:graphicData uri="http://schemas.openxmlformats.org/drawingml/2006/table">
            <a:tbl>
              <a:tblPr/>
              <a:tblGrid>
                <a:gridCol w="2232000"/>
                <a:gridCol w="5256360"/>
              </a:tblGrid>
              <a:tr h="1584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iedobór rynkow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taki stan na rynku, w którym wielkość popytu będzie większa od wielkości podaży, występuje przy cenie niższej od ceny równowag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0:13:10Z</dcterms:created>
  <dc:creator>x</dc:creator>
  <dc:description/>
  <dc:language>en-US</dc:language>
  <cp:lastModifiedBy>Marta</cp:lastModifiedBy>
  <dcterms:modified xsi:type="dcterms:W3CDTF">2013-01-31T15:33:42Z</dcterms:modified>
  <cp:revision>49</cp:revision>
  <dc:subject/>
  <dc:title>Slajd 1</dc:title>
</cp:coreProperties>
</file>